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E060-51BF-4E3C-9410-0F8447852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8D87-3746-4E25-9E56-D5B6E767C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03F3-69B7-4CA6-8763-0EF74E10F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1BCF-C77D-435A-AB1C-F812706A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7400-BB5A-4BB2-B1B9-744EEB555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72F-8167-490A-B4E2-6EB30209D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D3F2-2811-42E0-B8F2-D628041BB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B91-E5AC-4BC8-AE94-D09F90C3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5AD-0053-418D-91E6-201A9742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72D-8BEE-4616-9326-BE9EAED0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C49-18A5-4FA2-B73A-44E5C397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B1B5-7C1B-4421-8FA9-83F84DB6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4FEA-56AA-423B-A1A0-71954F59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31C5-12EF-4694-BF46-0B1F7567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18A4-0C39-4A73-9FD2-B694E064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36FC-41FF-473D-958D-69D6321B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56A4-6DA9-4374-9F60-F2BCA974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3E96-F1A9-4665-9E01-D2A01C4B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B87-CD6A-42C7-B502-04E103BD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5652-1780-442F-9841-162A5FFD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D70D-B4E6-4099-A35A-CD83872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69F1-4C3D-4F41-9829-1064EEB8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63BD-5ED9-4F05-AB21-4AA99DCE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FAD6-0AC7-438F-8B68-3B8ED438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6806-4C22-46FE-82D6-55F67997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128-5BA2-4173-B922-A62368D0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CA1-1C20-496E-918D-ED3E1F55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AB9-39B0-4B3A-8E16-3BDB0FE5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9E4-E01D-4F86-8DE9-8780DB19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86F-70A1-4C37-A657-917B4031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E73-5DB0-47E8-9DFA-B830B6B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9C80-BE7B-48A9-BB3D-34B8E2FD6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9458-6BD5-4182-AF64-EC99F3110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66"/>
                </a:solidFill>
                <a:latin typeface="Arial"/>
              </a:rPr>
              <a:t>3.02C Website Organization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885840"/>
            <a:ext cx="6172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2 Develop webp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Information Archite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89"/>
              </a:spcBef>
              <a:spcAft>
                <a:spcPts val="68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mission/purpose of the web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l (e-Comme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spcAft>
                <a:spcPts val="68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goals of the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spcAft>
                <a:spcPts val="68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target au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89"/>
              </a:spcBef>
              <a:spcAft>
                <a:spcPts val="68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competitive 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6019920" y="2438280"/>
            <a:ext cx="2743200" cy="2654280"/>
            <a:chOff x="6019920" y="2438280"/>
            <a:chExt cx="2743200" cy="2654280"/>
          </a:xfrm>
        </p:grpSpPr>
        <p:pic>
          <p:nvPicPr>
            <p:cNvPr id="100" name="Picture 4" descr="MPj03847350000[1]"/>
            <p:cNvPicPr/>
            <p:nvPr/>
          </p:nvPicPr>
          <p:blipFill>
            <a:blip r:embed="rId1"/>
            <a:stretch/>
          </p:blipFill>
          <p:spPr>
            <a:xfrm>
              <a:off x="6019920" y="2438280"/>
              <a:ext cx="274320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6"/>
            <p:cNvSpPr/>
            <p:nvPr/>
          </p:nvSpPr>
          <p:spPr>
            <a:xfrm>
              <a:off x="6858000" y="3200400"/>
              <a:ext cx="1066680" cy="990720"/>
            </a:xfrm>
            <a:prstGeom prst="ellipse">
              <a:avLst/>
            </a:prstGeom>
            <a:solidFill>
              <a:srgbClr val="f314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7cdcc"/>
                  </a:solidFill>
                  <a:latin typeface="Arial"/>
                </a:rPr>
                <a:t>WW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Information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Archite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the content of the web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deo, Audio, An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termine website structure and navig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Linear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7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rs view pages one at a time in a specific 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pics are arranged in chronological, alphabetical, or series specific 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ges have links to the next page and back to previous or index page on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d for pages that need to be read or completed in a specific 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-by-step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linearwebsite"/>
          <p:cNvPicPr/>
          <p:nvPr/>
        </p:nvPicPr>
        <p:blipFill>
          <a:blip r:embed="rId1"/>
          <a:srcRect l="0" t="0" r="25455" b="68266"/>
          <a:stretch/>
        </p:blipFill>
        <p:spPr>
          <a:xfrm>
            <a:off x="1600200" y="5410080"/>
            <a:ext cx="62485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Webbed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users to jump to any page on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ites with a few inter-related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rder of the viewing doesn’t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onsistent or user will get con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7cd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vigation bars or menus are included on all p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webbedwebsite"/>
          <p:cNvPicPr/>
          <p:nvPr/>
        </p:nvPicPr>
        <p:blipFill>
          <a:blip r:embed="rId1"/>
          <a:stretch/>
        </p:blipFill>
        <p:spPr>
          <a:xfrm>
            <a:off x="4800600" y="2819520"/>
            <a:ext cx="38703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Hierarchical</a:t>
            </a: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6666"/>
                </a:solidFill>
                <a:latin typeface="Arial"/>
              </a:rPr>
              <a:t>Structure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105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36"/>
              </a:spcBef>
              <a:spcAft>
                <a:spcPts val="83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oks like a family tree or like a chain of comman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36"/>
              </a:spcBef>
              <a:spcAft>
                <a:spcPts val="83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organize large amounts of informatio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categories and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catego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36"/>
              </a:spcBef>
              <a:spcAft>
                <a:spcPts val="836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st way to organize complex bodies of inform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ierarchialwebsite"/>
          <p:cNvPicPr/>
          <p:nvPr/>
        </p:nvPicPr>
        <p:blipFill>
          <a:blip r:embed="rId1"/>
          <a:stretch/>
        </p:blipFill>
        <p:spPr>
          <a:xfrm>
            <a:off x="5181480" y="2209680"/>
            <a:ext cx="3611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2:42:01Z</dcterms:created>
  <dc:creator>Lee O'Neal</dc:creator>
  <dc:description/>
  <dc:language>en-US</dc:language>
  <cp:lastModifiedBy>ycsadmin</cp:lastModifiedBy>
  <dcterms:modified xsi:type="dcterms:W3CDTF">2011-07-01T19:30:46Z</dcterms:modified>
  <cp:revision>43</cp:revision>
  <dc:subject/>
  <dc:title>Web Site Development  Competency 8 Create a multimedia web site.</dc:title>
</cp:coreProperties>
</file>